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BE9-EEF3-49FA-BF32-636A7435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3C3-6C59-4FA2-9A6F-C132D5CC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605-16BC-4E3F-9C13-94D2CD5C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75E-92AF-4285-9EDC-4D83C85C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752-C30E-4E79-8922-5CFA83C5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104-7D3A-4DEC-AA8A-11DFF189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8BF-18D7-47C0-80A3-BEA49E8B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FB6-DE0D-4024-817C-19BD126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994-A5E0-4058-B0CC-8EB4CE92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D85-0B5D-42AC-B5E3-EDB79CE8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428-E2BA-41AE-93C2-10D8E0F0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050-6B00-4D71-9215-3A82715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027A9-F13D-441A-8776-D1C45DBB5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come to Americ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arly Immigrants' Reas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1:  Economic Opportunity (Land and Mone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ngland’s population in the 1600’s grew rapidly.  At the same time, farming technology improved, pushing m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landless peasants out of farm work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and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the increasing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crowded citi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.  Land and economic opportunity were sca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1008072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unded in 1607 by 104 men and boys in what is now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Located on a marshy peninsula (for defense purposes) – infested with mosquitoes carrying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ony also plagued by Indian attacks and bad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Only 25% of the colonists survived the first year – hunger, dysentery, malaria, yellow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re colonists came (including families), but second winter harder – “the starving time” – one colonist ate his w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0920" indent="-489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bacco crop “saves” Jamestown as it provides a stead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ntured Serv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10058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 do the intense farmwork required for tobacco cultivation, more workers wer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Poor young men, ages 18-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ork as servant for 5-7 years in exchange for free voyage, free food and shelter, and 50 acres of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d few rights, but more than sl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t least 50% of 17</a:t>
            </a:r>
            <a:r>
              <a:rPr b="0" lang="en-US" sz="3600" spc="-1" strike="noStrike" baseline="15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century European immigrants came as indentured serv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2:  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der Henry VIII, the Church of England had become controlled by the Crown.  Some people thought this to be a violation of Christian principles.  For them, government control of religion was impure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The Church of England harassed those who practiced other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grims:  Plymouth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807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9000"/>
          </a:bodyPr>
          <a:p>
            <a:pPr marL="879840" indent="-545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paratists:  wanted to be left alone to practice thei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9840" indent="-545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living in exile in the Netherlands, about 100 Pilgrims set sail on the </a:t>
            </a:r>
            <a:r>
              <a:rPr b="0" i="1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yflower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16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9840" indent="-545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like Jamestown, original settlers were families who moved to practice religion, not to make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9840" indent="-545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lf died in first winter alone, semi-successful relationship with local Natives helped them surv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094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:  Massachusetts Bay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10080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5000"/>
          </a:bodyPr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rrived in Boston in 16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Not separatists like Pilgrims, they wanted to set up a land with a “purified” English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trong work ethic, well-organized, well-edu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st successful of early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(and intolerant of oth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4200" indent="-52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lieved God has chosen them to found a “city on a hil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3800" y="3380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3:  They were forced to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828440"/>
            <a:ext cx="9623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War and disease quickly reduced the number of Native American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living in the Caribbean Islands and directly along the Atlantic coast.  In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desire for cheap labor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European colonists turned to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10058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iddle Passage” refers to the side of the slave trade triangle from Africa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captured in Africa and sold to European slave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rutal conditions on journey over, many died o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arrived early on in Jamestown and other Southern colonies to tend fields, but also lived throughout all colonies, largely as personal servant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0" indent="-528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tween 10 and 20 million slaves in total were brought to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3:45:56Z</dcterms:created>
  <dc:creator/>
  <dc:description/>
  <dc:language>en-US</dc:language>
  <cp:lastModifiedBy/>
  <cp:revision>1</cp:revision>
  <dc:subject/>
  <dc:title/>
</cp:coreProperties>
</file>